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扇形统计图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682560" y="216540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扇形统计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7" descr=""/>
          <p:cNvPicPr/>
          <p:nvPr/>
        </p:nvPicPr>
        <p:blipFill>
          <a:blip r:embed="rId2"/>
          <a:stretch/>
        </p:blipFill>
        <p:spPr>
          <a:xfrm>
            <a:off x="684360" y="873000"/>
            <a:ext cx="884160" cy="9003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097360" y="3483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13000" y="3699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运用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611280" y="1576440"/>
            <a:ext cx="630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李明每天的作息时间安排如下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539640" y="5445000"/>
            <a:ext cx="755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李明每天花多少小时做作业？你还能得到哪些信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0" y="6093000"/>
            <a:ext cx="943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答：李明每天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.92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时做作业；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.08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时上课；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.12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时活动；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539640" y="5445000"/>
            <a:ext cx="755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你认为李明的作息时间安排得合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539640" y="5445000"/>
            <a:ext cx="755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你的作息时间与李明的有什么不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47689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468360" y="2216160"/>
            <a:ext cx="867564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十一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十一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26920" y="1700280"/>
            <a:ext cx="4943520" cy="1414440"/>
            <a:chOff x="826920" y="1700280"/>
            <a:chExt cx="4943520" cy="1414440"/>
          </a:xfrm>
        </p:grpSpPr>
        <p:pic>
          <p:nvPicPr>
            <p:cNvPr id="45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826920" y="1700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utoShape 27"/>
            <p:cNvSpPr/>
            <p:nvPr/>
          </p:nvSpPr>
          <p:spPr>
            <a:xfrm>
              <a:off x="2555640" y="1700280"/>
              <a:ext cx="3214800" cy="1317600"/>
            </a:xfrm>
            <a:prstGeom prst="wedgeRoundRectCallout">
              <a:avLst>
                <a:gd name="adj1" fmla="val -60023"/>
                <a:gd name="adj2" fmla="val 28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学校要为咱们班购置一些运动器材，你能提出一些建议吗？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68360" y="3860640"/>
            <a:ext cx="4011480" cy="1800360"/>
            <a:chOff x="468360" y="3860640"/>
            <a:chExt cx="4011480" cy="1800360"/>
          </a:xfrm>
        </p:grpSpPr>
        <p:sp>
          <p:nvSpPr>
            <p:cNvPr id="48" name="AutoShape 27"/>
            <p:cNvSpPr/>
            <p:nvPr/>
          </p:nvSpPr>
          <p:spPr>
            <a:xfrm>
              <a:off x="1979640" y="4005000"/>
              <a:ext cx="2500200" cy="1322640"/>
            </a:xfrm>
            <a:prstGeom prst="wedgeRoundRectCallout">
              <a:avLst>
                <a:gd name="adj1" fmla="val -62509"/>
                <a:gd name="adj2" fmla="val -130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觉得应该先调查一下喜欢每种运动的各有多少人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468360" y="386064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097360" y="3483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3000" y="3699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9000" y="39146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TextBox 59"/>
          <p:cNvSpPr/>
          <p:nvPr/>
        </p:nvSpPr>
        <p:spPr>
          <a:xfrm>
            <a:off x="6919920" y="3933720"/>
            <a:ext cx="1366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2.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79280" y="1455840"/>
            <a:ext cx="7777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整理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560" y="2313360"/>
            <a:ext cx="405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班同学最喜欢运动项目的情况统计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47640" y="2852640"/>
          <a:ext cx="6383160" cy="1657440"/>
        </p:xfrm>
        <a:graphic>
          <a:graphicData uri="http://schemas.openxmlformats.org/drawingml/2006/table">
            <a:tbl>
              <a:tblPr/>
              <a:tblGrid>
                <a:gridCol w="1152360"/>
                <a:gridCol w="1167120"/>
                <a:gridCol w="1015920"/>
                <a:gridCol w="1015920"/>
                <a:gridCol w="1015920"/>
                <a:gridCol w="10159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乒乓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足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跳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踢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其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百分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"/>
          <p:cNvSpPr/>
          <p:nvPr/>
        </p:nvSpPr>
        <p:spPr>
          <a:xfrm>
            <a:off x="2948040" y="3922560"/>
            <a:ext cx="1254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4"/>
          <p:cNvSpPr/>
          <p:nvPr/>
        </p:nvSpPr>
        <p:spPr>
          <a:xfrm>
            <a:off x="4857840" y="3935520"/>
            <a:ext cx="136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2.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5"/>
          <p:cNvSpPr/>
          <p:nvPr/>
        </p:nvSpPr>
        <p:spPr>
          <a:xfrm>
            <a:off x="3948120" y="3935520"/>
            <a:ext cx="1147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0"/>
          <p:cNvSpPr/>
          <p:nvPr/>
        </p:nvSpPr>
        <p:spPr>
          <a:xfrm>
            <a:off x="6006960" y="3922560"/>
            <a:ext cx="1130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5084640"/>
            <a:ext cx="5545080" cy="1279440"/>
            <a:chOff x="395280" y="5084640"/>
            <a:chExt cx="5545080" cy="1279440"/>
          </a:xfrm>
        </p:grpSpPr>
        <p:pic>
          <p:nvPicPr>
            <p:cNvPr id="63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395280" y="5084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AutoShape 27"/>
            <p:cNvSpPr/>
            <p:nvPr/>
          </p:nvSpPr>
          <p:spPr>
            <a:xfrm>
              <a:off x="2052720" y="5157720"/>
              <a:ext cx="3887640" cy="936720"/>
            </a:xfrm>
            <a:prstGeom prst="wedgeRoundRectCallout">
              <a:avLst>
                <a:gd name="adj1" fmla="val -56328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你能算出喜欢每种运动的人数各占全班的百分之几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3880" y="1400040"/>
            <a:ext cx="5884920" cy="44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97360" y="3483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生成统计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84200" y="3673080"/>
            <a:ext cx="3754440" cy="2158920"/>
            <a:chOff x="1384200" y="3673080"/>
            <a:chExt cx="3754440" cy="2158920"/>
          </a:xfrm>
        </p:grpSpPr>
        <p:sp>
          <p:nvSpPr>
            <p:cNvPr id="69" name=""/>
            <p:cNvSpPr/>
            <p:nvPr/>
          </p:nvSpPr>
          <p:spPr>
            <a:xfrm>
              <a:off x="1393560" y="583092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384200" y="3673080"/>
              <a:ext cx="0" cy="21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93560" y="554832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88880" y="524520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84200" y="495612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88880" y="465912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84200" y="436068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84200" y="408312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88880" y="380520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1192320" y="6093000"/>
            <a:ext cx="4686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条形统计图中，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88920" y="3573360"/>
            <a:ext cx="4278240" cy="2573640"/>
            <a:chOff x="988920" y="3573360"/>
            <a:chExt cx="4278240" cy="257364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1320840" y="3725640"/>
              <a:ext cx="3882960" cy="215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988920" y="3573360"/>
              <a:ext cx="4278240" cy="2573640"/>
              <a:chOff x="988920" y="3573360"/>
              <a:chExt cx="4278240" cy="2573640"/>
            </a:xfrm>
          </p:grpSpPr>
          <p:sp>
            <p:nvSpPr>
              <p:cNvPr id="83" name=""/>
              <p:cNvSpPr/>
              <p:nvPr/>
            </p:nvSpPr>
            <p:spPr>
              <a:xfrm>
                <a:off x="1320840" y="5742000"/>
                <a:ext cx="107928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乒乓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79440" y="5738760"/>
                <a:ext cx="100800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足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62080" y="5751360"/>
                <a:ext cx="72072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跳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720960" y="5757840"/>
                <a:ext cx="72540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踢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41760" y="5761080"/>
                <a:ext cx="72540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其他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988920" y="3573360"/>
                <a:ext cx="3930480" cy="2440080"/>
                <a:chOff x="988920" y="3573360"/>
                <a:chExt cx="3930480" cy="24400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114200" y="56275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04840" y="531000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04840" y="50227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104840" y="47401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119240" y="4456080"/>
                  <a:ext cx="2775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988920" y="4157640"/>
                  <a:ext cx="43164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988920" y="3870360"/>
                  <a:ext cx="43164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993600" y="3573360"/>
                  <a:ext cx="432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527120" y="3760560"/>
                  <a:ext cx="43164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347920" y="4340160"/>
                  <a:ext cx="2775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111480" y="476244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894120" y="4619520"/>
                  <a:ext cx="2775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41840" y="4195800"/>
                  <a:ext cx="2775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0" y="2276640"/>
            <a:ext cx="4826160" cy="1800000"/>
            <a:chOff x="0" y="2276640"/>
            <a:chExt cx="4826160" cy="1800000"/>
          </a:xfrm>
        </p:grpSpPr>
        <p:sp>
          <p:nvSpPr>
            <p:cNvPr id="103" name="AutoShape 27"/>
            <p:cNvSpPr/>
            <p:nvPr/>
          </p:nvSpPr>
          <p:spPr>
            <a:xfrm>
              <a:off x="1387440" y="2609640"/>
              <a:ext cx="3438720" cy="583920"/>
            </a:xfrm>
            <a:prstGeom prst="wedgeRoundRectCallout">
              <a:avLst>
                <a:gd name="adj1" fmla="val -54384"/>
                <a:gd name="adj2" fmla="val -13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制成的是条形统计图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0" y="227664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500720" y="1341360"/>
            <a:ext cx="4187160" cy="1279440"/>
            <a:chOff x="4500720" y="1341360"/>
            <a:chExt cx="4187160" cy="1279440"/>
          </a:xfrm>
        </p:grpSpPr>
        <p:pic>
          <p:nvPicPr>
            <p:cNvPr id="106" name="Picture 16" descr="女天使"/>
            <p:cNvPicPr/>
            <p:nvPr/>
          </p:nvPicPr>
          <p:blipFill>
            <a:blip r:embed="rId4"/>
            <a:stretch/>
          </p:blipFill>
          <p:spPr>
            <a:xfrm>
              <a:off x="7164360" y="1341360"/>
              <a:ext cx="1523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27"/>
            <p:cNvSpPr/>
            <p:nvPr/>
          </p:nvSpPr>
          <p:spPr>
            <a:xfrm>
              <a:off x="4500720" y="1536480"/>
              <a:ext cx="2580840" cy="957240"/>
            </a:xfrm>
            <a:prstGeom prst="wedgeRoundRectCallout">
              <a:avLst>
                <a:gd name="adj1" fmla="val 58300"/>
                <a:gd name="adj2" fmla="val 25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你能根据需要制成相应的统计图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133960" y="3645000"/>
            <a:ext cx="4019400" cy="2016000"/>
            <a:chOff x="5133960" y="3645000"/>
            <a:chExt cx="4019400" cy="2016000"/>
          </a:xfrm>
        </p:grpSpPr>
        <p:sp>
          <p:nvSpPr>
            <p:cNvPr id="109" name="AutoShape 27"/>
            <p:cNvSpPr/>
            <p:nvPr/>
          </p:nvSpPr>
          <p:spPr>
            <a:xfrm>
              <a:off x="5133960" y="3645000"/>
              <a:ext cx="2590920" cy="1728720"/>
            </a:xfrm>
            <a:prstGeom prst="wedgeRoundRectCallout">
              <a:avLst>
                <a:gd name="adj1" fmla="val 62745"/>
                <a:gd name="adj2" fmla="val -5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从图中我知道了：喜欢乒乓球的人数最多，喜欢跳绳的人数最少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7724880" y="3862440"/>
              <a:ext cx="142848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1992600" y="3343320"/>
            <a:ext cx="2585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六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班同学最喜欢体育活动项目统计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6560" y="2203560"/>
            <a:ext cx="3313080" cy="1801800"/>
            <a:chOff x="466560" y="2203560"/>
            <a:chExt cx="3313080" cy="180180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66560" y="2203560"/>
              <a:ext cx="14144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27"/>
            <p:cNvSpPr/>
            <p:nvPr/>
          </p:nvSpPr>
          <p:spPr>
            <a:xfrm>
              <a:off x="1906560" y="2276640"/>
              <a:ext cx="1873080" cy="863640"/>
            </a:xfrm>
            <a:prstGeom prst="wedgeRoundRectCallout">
              <a:avLst>
                <a:gd name="adj1" fmla="val -62625"/>
                <a:gd name="adj2" fmla="val -8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制成了这幅统计图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71640" y="4041720"/>
            <a:ext cx="4032000" cy="2340000"/>
            <a:chOff x="971640" y="4041720"/>
            <a:chExt cx="4032000" cy="2340000"/>
          </a:xfrm>
        </p:grpSpPr>
        <p:grpSp>
          <p:nvGrpSpPr>
            <p:cNvPr id="117" name=""/>
            <p:cNvGrpSpPr/>
            <p:nvPr/>
          </p:nvGrpSpPr>
          <p:grpSpPr>
            <a:xfrm>
              <a:off x="1620720" y="4402080"/>
              <a:ext cx="2056680" cy="1979640"/>
              <a:chOff x="1620720" y="4402080"/>
              <a:chExt cx="2056680" cy="1979640"/>
            </a:xfrm>
          </p:grpSpPr>
          <p:pic>
            <p:nvPicPr>
              <p:cNvPr id="1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20440" y="4402080"/>
                <a:ext cx="1956960" cy="19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2640960" y="476244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乒乓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90200" y="569268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足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60120" y="475596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其他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2.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20720" y="530064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踢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90080" y="568476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跳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2.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971640" y="4041720"/>
              <a:ext cx="4032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六（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）班同学最喜欢体育活动项目统计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632480" y="1628640"/>
            <a:ext cx="4187160" cy="1279440"/>
            <a:chOff x="4632480" y="1628640"/>
            <a:chExt cx="4187160" cy="1279440"/>
          </a:xfrm>
        </p:grpSpPr>
        <p:pic>
          <p:nvPicPr>
            <p:cNvPr id="126" name="Picture 16" descr="女天使"/>
            <p:cNvPicPr/>
            <p:nvPr/>
          </p:nvPicPr>
          <p:blipFill>
            <a:blip r:embed="rId4"/>
            <a:stretch/>
          </p:blipFill>
          <p:spPr>
            <a:xfrm>
              <a:off x="7296120" y="1628640"/>
              <a:ext cx="1523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27"/>
            <p:cNvSpPr/>
            <p:nvPr/>
          </p:nvSpPr>
          <p:spPr>
            <a:xfrm>
              <a:off x="4632480" y="1823760"/>
              <a:ext cx="2580840" cy="957240"/>
            </a:xfrm>
            <a:prstGeom prst="wedgeRoundRectCallout">
              <a:avLst>
                <a:gd name="adj1" fmla="val 58300"/>
                <a:gd name="adj2" fmla="val 25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你能根据需要制成相应的统计图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003640" y="4149720"/>
            <a:ext cx="3662280" cy="1798560"/>
            <a:chOff x="5003640" y="4149720"/>
            <a:chExt cx="3662280" cy="1798560"/>
          </a:xfrm>
        </p:grpSpPr>
        <p:sp>
          <p:nvSpPr>
            <p:cNvPr id="129" name="AutoShape 27"/>
            <p:cNvSpPr/>
            <p:nvPr/>
          </p:nvSpPr>
          <p:spPr>
            <a:xfrm>
              <a:off x="5003640" y="4365720"/>
              <a:ext cx="2063880" cy="1008000"/>
            </a:xfrm>
            <a:prstGeom prst="wedgeRoundRectCallout">
              <a:avLst>
                <a:gd name="adj1" fmla="val 62305"/>
                <a:gd name="adj2" fmla="val 24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你认识这幅统计图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7237080" y="414972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生成统计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97360" y="3483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13000" y="3699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29000" y="39146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认识扇形统计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44400" y="5280120"/>
            <a:ext cx="594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整个圆、每个小扇形分别表示什么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08000" y="5840280"/>
            <a:ext cx="9086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答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整个圆表示六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班同学的人数，粉色的扇形表示喜欢足球的人数占全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蓝色的扇形表示喜欢跳绳的人数占全班人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5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649440" y="5286240"/>
            <a:ext cx="673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喜欢踢毽的人数占总人数的百分之几？乒乓球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-417600" y="5845320"/>
            <a:ext cx="7883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答：喜欢踢毽的人数占总人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喜欢乒乓球的人数占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641520" y="5291280"/>
            <a:ext cx="648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各个扇形的大小与什么有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-412920" y="5815080"/>
            <a:ext cx="8458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答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各个扇形的大小与班中喜欢某项运动的人数占全班人数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百分之几有关系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635040" y="5281560"/>
            <a:ext cx="648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这样的统计图有什么好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-414360" y="5815080"/>
            <a:ext cx="885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答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可以清楚地反映出喜欢每种运动项目的人数占总人数的百分之几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50920" y="2492280"/>
            <a:ext cx="4032360" cy="2340000"/>
            <a:chOff x="2050920" y="2492280"/>
            <a:chExt cx="4032360" cy="2340000"/>
          </a:xfrm>
        </p:grpSpPr>
        <p:grpSp>
          <p:nvGrpSpPr>
            <p:cNvPr id="146" name=""/>
            <p:cNvGrpSpPr/>
            <p:nvPr/>
          </p:nvGrpSpPr>
          <p:grpSpPr>
            <a:xfrm>
              <a:off x="2700360" y="2852640"/>
              <a:ext cx="2057400" cy="1979640"/>
              <a:chOff x="2700360" y="2852640"/>
              <a:chExt cx="2057400" cy="1979640"/>
            </a:xfrm>
          </p:grpSpPr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00440" y="2852640"/>
                <a:ext cx="1957320" cy="19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3720960" y="321300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乒乓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70200" y="414324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足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40120" y="320652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其他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2.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00360" y="375120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踢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13532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跳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2.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050920" y="2492280"/>
              <a:ext cx="4032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六（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）班同学最喜欢体育活动项目统计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716360" y="1125360"/>
            <a:ext cx="4044960" cy="1414440"/>
            <a:chOff x="4716360" y="1125360"/>
            <a:chExt cx="4044960" cy="1414440"/>
          </a:xfrm>
        </p:grpSpPr>
        <p:pic>
          <p:nvPicPr>
            <p:cNvPr id="155" name="Picture 15" descr="男天使"/>
            <p:cNvPicPr/>
            <p:nvPr/>
          </p:nvPicPr>
          <p:blipFill>
            <a:blip r:embed="rId3"/>
            <a:stretch/>
          </p:blipFill>
          <p:spPr>
            <a:xfrm>
              <a:off x="7237440" y="1125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27"/>
            <p:cNvSpPr/>
            <p:nvPr/>
          </p:nvSpPr>
          <p:spPr>
            <a:xfrm>
              <a:off x="4716360" y="1709640"/>
              <a:ext cx="2448000" cy="568080"/>
            </a:xfrm>
            <a:prstGeom prst="wedgeRoundRectCallout">
              <a:avLst>
                <a:gd name="adj1" fmla="val 58819"/>
                <a:gd name="adj2" fmla="val 444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这叫扇形统计图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1455840"/>
            <a:ext cx="41767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四）比较辨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15880" y="5391000"/>
            <a:ext cx="548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这两幅统计图有什么相同点和不同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07960" y="5392800"/>
            <a:ext cx="755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如果你是老师，拿到了这两幅统计图，会做出什么决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-179280" y="5840280"/>
            <a:ext cx="869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答：这两幅图都可以看出数量的多少，扇形统计图还能清楚地反映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喜欢每种运动项目的人数占总人数的百分之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25600" y="2133720"/>
            <a:ext cx="4278240" cy="2751480"/>
            <a:chOff x="525600" y="2133720"/>
            <a:chExt cx="4278240" cy="2751480"/>
          </a:xfrm>
        </p:grpSpPr>
        <p:grpSp>
          <p:nvGrpSpPr>
            <p:cNvPr id="163" name=""/>
            <p:cNvGrpSpPr/>
            <p:nvPr/>
          </p:nvGrpSpPr>
          <p:grpSpPr>
            <a:xfrm>
              <a:off x="900360" y="2133720"/>
              <a:ext cx="3754440" cy="2445840"/>
              <a:chOff x="900360" y="2133720"/>
              <a:chExt cx="3754440" cy="2445840"/>
            </a:xfrm>
          </p:grpSpPr>
          <p:sp>
            <p:nvSpPr>
              <p:cNvPr id="164" name=""/>
              <p:cNvSpPr/>
              <p:nvPr/>
            </p:nvSpPr>
            <p:spPr>
              <a:xfrm>
                <a:off x="1443240" y="2133720"/>
                <a:ext cx="234108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六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）班同学最喜欢运动项目统计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00360" y="2420640"/>
                <a:ext cx="3754440" cy="2158920"/>
                <a:chOff x="900360" y="2420640"/>
                <a:chExt cx="3754440" cy="21589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09720" y="457848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900360" y="2420640"/>
                  <a:ext cx="0" cy="215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09720" y="429588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05040" y="399276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900360" y="370368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05040" y="340668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900360" y="310824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900360" y="283068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05040" y="255276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525600" y="2311560"/>
              <a:ext cx="4278240" cy="2573640"/>
              <a:chOff x="525600" y="2311560"/>
              <a:chExt cx="4278240" cy="2573640"/>
            </a:xfrm>
          </p:grpSpPr>
          <p:pic>
            <p:nvPicPr>
              <p:cNvPr id="1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57520" y="2463840"/>
                <a:ext cx="3882960" cy="215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" name=""/>
              <p:cNvGrpSpPr/>
              <p:nvPr/>
            </p:nvGrpSpPr>
            <p:grpSpPr>
              <a:xfrm>
                <a:off x="525600" y="2311560"/>
                <a:ext cx="4278240" cy="2573640"/>
                <a:chOff x="525600" y="2311560"/>
                <a:chExt cx="4278240" cy="2573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857520" y="4480200"/>
                  <a:ext cx="107928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</a:rPr>
                    <a:t>乒乓球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16120" y="4476960"/>
                  <a:ext cx="1008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</a:rPr>
                    <a:t>足球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498760" y="4489560"/>
                  <a:ext cx="7207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</a:rPr>
                    <a:t>跳绳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257640" y="4496040"/>
                  <a:ext cx="7254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</a:rPr>
                    <a:t>踢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78440" y="4499280"/>
                  <a:ext cx="7254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</a:rPr>
                    <a:t>其他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525600" y="2311560"/>
                  <a:ext cx="3930480" cy="2440080"/>
                  <a:chOff x="525600" y="2311560"/>
                  <a:chExt cx="3930480" cy="244008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650880" y="43657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41520" y="404820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41520" y="37609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41520" y="34783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55920" y="3194280"/>
                    <a:ext cx="277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25600" y="2895840"/>
                    <a:ext cx="43164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25600" y="2608560"/>
                    <a:ext cx="43164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30280" y="2311560"/>
                    <a:ext cx="43200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063800" y="2498760"/>
                    <a:ext cx="43164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884600" y="3078360"/>
                    <a:ext cx="277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648160" y="350064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430800" y="3357720"/>
                    <a:ext cx="277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178520" y="2934000"/>
                    <a:ext cx="277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97" name=""/>
          <p:cNvGrpSpPr/>
          <p:nvPr/>
        </p:nvGrpSpPr>
        <p:grpSpPr>
          <a:xfrm>
            <a:off x="4859280" y="2114640"/>
            <a:ext cx="4032360" cy="2340000"/>
            <a:chOff x="4859280" y="2114640"/>
            <a:chExt cx="4032360" cy="2340000"/>
          </a:xfrm>
        </p:grpSpPr>
        <p:grpSp>
          <p:nvGrpSpPr>
            <p:cNvPr id="198" name=""/>
            <p:cNvGrpSpPr/>
            <p:nvPr/>
          </p:nvGrpSpPr>
          <p:grpSpPr>
            <a:xfrm>
              <a:off x="5508720" y="2475000"/>
              <a:ext cx="2057400" cy="1979640"/>
              <a:chOff x="5508720" y="2475000"/>
              <a:chExt cx="2057400" cy="1979640"/>
            </a:xfrm>
          </p:grpSpPr>
          <p:pic>
            <p:nvPicPr>
              <p:cNvPr id="1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08800" y="2475000"/>
                <a:ext cx="1957320" cy="19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6529320" y="283536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乒乓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78560" y="376560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足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48480" y="282888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其他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2.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08720" y="337356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踢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78440" y="375768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跳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2.5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dobe Gothic Std B"/>
                  </a:rPr>
                  <a:t>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4859280" y="2114640"/>
              <a:ext cx="4032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六（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）班同学最喜欢运动项目统计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五）生活中的扇形统计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40000" y="2492280"/>
            <a:ext cx="3480840" cy="3238560"/>
            <a:chOff x="2340000" y="2492280"/>
            <a:chExt cx="3480840" cy="3238560"/>
          </a:xfrm>
        </p:grpSpPr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2340000" y="2492280"/>
              <a:ext cx="339696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327120" y="4236840"/>
              <a:ext cx="16552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北美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.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3920" y="3916440"/>
              <a:ext cx="1271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南美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65200" y="3930480"/>
              <a:ext cx="16556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非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.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49200" y="3397320"/>
              <a:ext cx="16556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亚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9.3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85800" y="3593880"/>
              <a:ext cx="1271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南极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.3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38000" y="3238560"/>
              <a:ext cx="1271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欧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.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85880" y="2916000"/>
              <a:ext cx="1271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大洋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90480" y="5100480"/>
              <a:ext cx="3311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世界陆地面积分布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47800" y="2589120"/>
            <a:ext cx="5081760" cy="2852640"/>
            <a:chOff x="1747800" y="2589120"/>
            <a:chExt cx="5081760" cy="2852640"/>
          </a:xfrm>
        </p:grpSpPr>
        <p:grpSp>
          <p:nvGrpSpPr>
            <p:cNvPr id="218" name=""/>
            <p:cNvGrpSpPr/>
            <p:nvPr/>
          </p:nvGrpSpPr>
          <p:grpSpPr>
            <a:xfrm>
              <a:off x="1747800" y="3232080"/>
              <a:ext cx="5081760" cy="2209680"/>
              <a:chOff x="1747800" y="3232080"/>
              <a:chExt cx="5081760" cy="2209680"/>
            </a:xfrm>
          </p:grpSpPr>
          <p:pic>
            <p:nvPicPr>
              <p:cNvPr id="2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6680" y="3413160"/>
                <a:ext cx="3295800" cy="202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0" name=""/>
              <p:cNvGrpSpPr/>
              <p:nvPr/>
            </p:nvGrpSpPr>
            <p:grpSpPr>
              <a:xfrm>
                <a:off x="1747800" y="3232080"/>
                <a:ext cx="5081760" cy="2159280"/>
                <a:chOff x="1747800" y="3232080"/>
                <a:chExt cx="5081760" cy="21592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697200" y="5041800"/>
                  <a:ext cx="151128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非洲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5.7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668840" y="3537000"/>
                  <a:ext cx="216072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亚洲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2.8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29040" y="3232080"/>
                  <a:ext cx="2160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大洋洲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.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33760" y="3346560"/>
                  <a:ext cx="216072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其他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.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049480" y="3365280"/>
                  <a:ext cx="2160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拉丁美洲和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加勒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.7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747800" y="4190760"/>
                  <a:ext cx="100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欧洲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2603880" y="2589120"/>
              <a:ext cx="2524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年中国对外援助资金地区分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97920" y="2565360"/>
            <a:ext cx="2408760" cy="2475000"/>
            <a:chOff x="2797920" y="2565360"/>
            <a:chExt cx="2408760" cy="2475000"/>
          </a:xfrm>
        </p:grpSpPr>
        <p:grpSp>
          <p:nvGrpSpPr>
            <p:cNvPr id="229" name=""/>
            <p:cNvGrpSpPr/>
            <p:nvPr/>
          </p:nvGrpSpPr>
          <p:grpSpPr>
            <a:xfrm>
              <a:off x="3144600" y="3060720"/>
              <a:ext cx="2062080" cy="1979640"/>
              <a:chOff x="3144600" y="3060720"/>
              <a:chExt cx="2062080" cy="1979640"/>
            </a:xfrm>
          </p:grpSpPr>
          <p:pic>
            <p:nvPicPr>
              <p:cNvPr id="23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44600" y="3060720"/>
                <a:ext cx="2062080" cy="19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4368600" y="356400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幼龄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3.82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92240" y="435600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中龄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3.4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98600" y="378936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近龄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4.82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331800" y="3314880"/>
                <a:ext cx="698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成龄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.0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95400" y="308916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过龄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.9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2797920" y="2565360"/>
              <a:ext cx="223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国乔木林各龄组的面积构成情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运用知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11280" y="157968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牛奶里含有丰富的营养成分，各种营养成分所占百分比如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611280" y="5013360"/>
            <a:ext cx="354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每天喝一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牛奶，能补充每种营养成分各多少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5154480" y="2260440"/>
            <a:ext cx="417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水分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7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17.5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5154480" y="2878200"/>
            <a:ext cx="391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蛋白质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.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.25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5154480" y="3556080"/>
            <a:ext cx="391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脂肪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5154480" y="4233960"/>
            <a:ext cx="391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乳糖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.5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5156280" y="4911840"/>
            <a:ext cx="3917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其他：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0.7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.75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4087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49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